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91E6-936E-4DA7-96D6-FFCF8BE6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5D85-0103-4FD3-9108-5E43673E2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D8A9-7C0A-42E2-B4F1-374184C5E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DB9-5448-4789-8FA6-AF87A8379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F5AA-D1D7-485C-BB1A-3D26AE591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357-9051-4514-A157-0CB522A85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DCC-5ECC-43A3-A198-A253B0D0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73B-D26E-4422-BC23-9ABA3768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94B-BF14-43F4-AADB-52CE781D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528-C510-4601-9F20-EDD41682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BB3-F3DA-430D-80A3-B02A853C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7E3-0DF4-428A-9F82-A85224C3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E80E-ED4E-407D-A703-BA65A19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5A26-37CD-427D-9011-8793138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C44-7EBF-45CC-866A-D1C190F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F17B-7354-4976-95A7-85BBD7BC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985B-F479-488B-BDBA-FA48B5D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BAF-3D90-45EA-8BFA-D713EA0C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23E7-D138-4C6B-B4C4-1699AF26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B00-92FD-4271-9429-88C5345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FDAB-ECDC-4DEB-8592-172E52E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05F9-3EE8-43AF-88A5-3C66745A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15A-C3B8-4303-BB26-223338A9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268-60FE-49EE-B2B8-770699B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FD8-08D9-4B0D-A671-3BA1CFD1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CFB-6581-4598-BE5D-F019DDFA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11D-8B4F-4F16-AA7A-723C37D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4EA-870A-4D2C-91CA-2E275C6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36F-0B29-40E9-A8DB-C8802D4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C8C-949B-40CC-9F08-CF18081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577E-F676-40D2-83B4-D8F6D3311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6ED0-20C4-4AA2-B611-513137982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TICLES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sheet of pap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wo weaknesses of the Articles of Confedera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84520" y="3200400"/>
            <a:ext cx="3774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ame the rebellion that occurred during 1786-1787 over farm foreclosures in Massachuset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784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Under the Articles of Confederation, how many votes did each state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36752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ame two powers of Congress under the Articles of Confedera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5800" y="320004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2511360" y="3449520"/>
            <a:ext cx="4121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30080" y="2057040"/>
            <a:ext cx="573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DEFINE </a:t>
            </a: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UNICAMERAL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0" y="182880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02T18:11:27Z</dcterms:modified>
  <cp:revision>128</cp:revision>
  <dc:subject/>
  <dc:title>D/O: TO EXPLAIN AND IDENTIFY PROBLEMS OF ECONOMICS</dc:title>
</cp:coreProperties>
</file>